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f3256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CCEC-A588-4E4D-854A-5B62A5B2DC9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998-F796-4B65-8D89-7BD61D724AE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802B-5C50-44F4-AA06-238B3BFD25C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14080" y="413064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1408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7680" y="1981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0920" y="1981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14080" y="413064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7680" y="413064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0920" y="413064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9760" y="151920"/>
            <a:ext cx="77342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1408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14080" y="413064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f325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6" descr=""/>
          <p:cNvPicPr/>
          <p:nvPr/>
        </p:nvPicPr>
        <p:blipFill>
          <a:blip r:embed="rId2"/>
          <a:stretch/>
        </p:blipFill>
        <p:spPr>
          <a:xfrm>
            <a:off x="42840" y="380880"/>
            <a:ext cx="1328760" cy="6172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7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666720" cy="1238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0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1436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41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4143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2063880" y="2125440"/>
            <a:ext cx="655416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99"/>
                </a:solidFill>
                <a:latin typeface="Arial"/>
              </a:rPr>
              <a:t>Valuing Mental Compu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99"/>
                </a:solidFill>
                <a:latin typeface="Arial"/>
              </a:rPr>
              <a:t>On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99"/>
                </a:solidFill>
                <a:latin typeface="Arial"/>
              </a:rPr>
              <a:t>Before you star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353520"/>
            <a:ext cx="733428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endParaRPr b="0" lang="en-US" sz="34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3483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 started at 17 and added 3 to make 20 and then 30 more makes 50 and I need 2 more to get to 52.  My answer is  </a:t>
            </a:r>
            <a:r>
              <a:rPr b="0" lang="en-AU" sz="2800" spc="-1" strike="noStrike">
                <a:solidFill>
                  <a:srgbClr val="919191"/>
                </a:solidFill>
                <a:latin typeface="Arial"/>
              </a:rPr>
              <a:t>33 …,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35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43200" y="53722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05956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59316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48864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17444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9"/>
          <p:cNvGrpSpPr/>
          <p:nvPr/>
        </p:nvGrpSpPr>
        <p:grpSpPr>
          <a:xfrm>
            <a:off x="3200400" y="3885840"/>
            <a:ext cx="3200040" cy="685800"/>
            <a:chOff x="3200400" y="3885840"/>
            <a:chExt cx="3200040" cy="685800"/>
          </a:xfrm>
        </p:grpSpPr>
        <p:grpSp>
          <p:nvGrpSpPr>
            <p:cNvPr id="92" name="Group 20"/>
            <p:cNvGrpSpPr/>
            <p:nvPr/>
          </p:nvGrpSpPr>
          <p:grpSpPr>
            <a:xfrm>
              <a:off x="3200400" y="3962520"/>
              <a:ext cx="1599840" cy="457200"/>
              <a:chOff x="3200400" y="3962520"/>
              <a:chExt cx="1599840" cy="457200"/>
            </a:xfrm>
          </p:grpSpPr>
          <p:sp>
            <p:nvSpPr>
              <p:cNvPr id="93" name="Line 21"/>
              <p:cNvSpPr/>
              <p:nvPr/>
            </p:nvSpPr>
            <p:spPr>
              <a:xfrm flipV="1">
                <a:off x="3200400" y="3962520"/>
                <a:ext cx="1066680" cy="45720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 flipV="1">
                <a:off x="4571640" y="3962520"/>
                <a:ext cx="228600" cy="38088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Line 23"/>
            <p:cNvSpPr/>
            <p:nvPr/>
          </p:nvSpPr>
          <p:spPr>
            <a:xfrm flipH="1" flipV="1">
              <a:off x="5638320" y="3885840"/>
              <a:ext cx="762120" cy="68580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24"/>
          <p:cNvSpPr/>
          <p:nvPr/>
        </p:nvSpPr>
        <p:spPr>
          <a:xfrm>
            <a:off x="4038480" y="35042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33"/>
                </a:solidFill>
                <a:latin typeface="Arial"/>
              </a:rPr>
              <a:t>33 …,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6" descr="_x000f_52minus17_2.tif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1447920" y="4191120"/>
            <a:ext cx="635004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7"/>
          <p:cNvSpPr/>
          <p:nvPr/>
        </p:nvSpPr>
        <p:spPr>
          <a:xfrm>
            <a:off x="6924960" y="452520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743560" y="426636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4877280" y="388512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152280"/>
            <a:ext cx="72770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7505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rst I take 10 from 50 to get 40. Then I take 7 from 2 to get 5 down. My answer is 35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omi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3048120" y="3656520"/>
            <a:ext cx="562680" cy="1259640"/>
            <a:chOff x="3048120" y="3656520"/>
            <a:chExt cx="562680" cy="1259640"/>
          </a:xfrm>
        </p:grpSpPr>
        <p:sp>
          <p:nvSpPr>
            <p:cNvPr id="104" name="Text Box 4"/>
            <p:cNvSpPr/>
            <p:nvPr/>
          </p:nvSpPr>
          <p:spPr>
            <a:xfrm>
              <a:off x="3075480" y="3656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3091680" y="4075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3091680" y="445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3124080" y="4457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048120" y="40766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4844880" y="3694680"/>
            <a:ext cx="1462320" cy="1259640"/>
            <a:chOff x="4844880" y="3694680"/>
            <a:chExt cx="1462320" cy="1259640"/>
          </a:xfrm>
        </p:grpSpPr>
        <p:sp>
          <p:nvSpPr>
            <p:cNvPr id="110" name="Text Box 9"/>
            <p:cNvSpPr/>
            <p:nvPr/>
          </p:nvSpPr>
          <p:spPr>
            <a:xfrm>
              <a:off x="4950000" y="369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4964400" y="411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4876920" y="449460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5 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4915080" y="449568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4844880" y="411480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3505320" y="4876920"/>
            <a:ext cx="1599840" cy="533160"/>
            <a:chOff x="3505320" y="4876920"/>
            <a:chExt cx="1599840" cy="533160"/>
          </a:xfrm>
        </p:grpSpPr>
        <p:sp>
          <p:nvSpPr>
            <p:cNvPr id="116" name="Line 14"/>
            <p:cNvSpPr/>
            <p:nvPr/>
          </p:nvSpPr>
          <p:spPr>
            <a:xfrm>
              <a:off x="3505320" y="4876920"/>
              <a:ext cx="533160" cy="5331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H="1">
              <a:off x="4266720" y="4876920"/>
              <a:ext cx="838440" cy="484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16"/>
          <p:cNvSpPr/>
          <p:nvPr/>
        </p:nvSpPr>
        <p:spPr>
          <a:xfrm>
            <a:off x="389808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9760" y="324000"/>
            <a:ext cx="773424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The empty number line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14080" y="1905120"/>
            <a:ext cx="77295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n also be used for larger nu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00 – 15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_x000f_equation_lg.tif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2057400" y="4267080"/>
            <a:ext cx="6350040" cy="1067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6936840" y="533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0864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537240" y="563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4118760" y="533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518560" y="533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531760" y="3945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462120" y="434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The empty number line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300 – 15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&#9;empty.tif                                                      0002C49C&#10;QTP laptop                     00001E4B:"/>
          <p:cNvPicPr/>
          <p:nvPr/>
        </p:nvPicPr>
        <p:blipFill>
          <a:blip r:embed="rId1"/>
          <a:stretch/>
        </p:blipFill>
        <p:spPr>
          <a:xfrm>
            <a:off x="3200400" y="3809880"/>
            <a:ext cx="3086280" cy="1409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904720" y="4799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671200" y="4799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386160" y="5104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736440" y="4799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79400" y="34581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41400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Partitioning each number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3352320"/>
            <a:ext cx="772956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an be recorded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20 + 30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3 + 8 =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50 + 11 = 61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654000" y="220788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23 + 38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98160"/>
            <a:ext cx="672444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Partitioning each number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3352680"/>
            <a:ext cx="7729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r in diagrammatic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371400" y="220788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23 + 38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3278160" y="4026960"/>
            <a:ext cx="2393640" cy="2366640"/>
            <a:chOff x="3278160" y="4026960"/>
            <a:chExt cx="2393640" cy="2366640"/>
          </a:xfrm>
        </p:grpSpPr>
        <p:sp>
          <p:nvSpPr>
            <p:cNvPr id="144" name="Text Box 6"/>
            <p:cNvSpPr/>
            <p:nvPr/>
          </p:nvSpPr>
          <p:spPr>
            <a:xfrm>
              <a:off x="3278160" y="4026960"/>
              <a:ext cx="63180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181120" y="4026960"/>
              <a:ext cx="40644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78160" y="51264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5040000" y="5110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30360" y="58122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Line 11"/>
          <p:cNvSpPr/>
          <p:nvPr/>
        </p:nvSpPr>
        <p:spPr>
          <a:xfrm>
            <a:off x="3809880" y="55627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4724280" y="55627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524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184b81"/>
                </a:solidFill>
                <a:latin typeface="Arial"/>
              </a:rPr>
              <a:t>Mental computation helps to develop an understanding of place val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Using </a:t>
            </a:r>
            <a:r>
              <a:rPr b="0" i="1" lang="en-AU" sz="4200" spc="-1" strike="noStrike">
                <a:solidFill>
                  <a:srgbClr val="0f3256"/>
                </a:solidFill>
                <a:latin typeface="Arial"/>
              </a:rPr>
              <a:t>models of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place value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urrent approach to developing written algorithms is through forming a place value rationale of “trad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begins with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dels of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lace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lti attribute blocks (MAB, Di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lace value ch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Limits of </a:t>
            </a:r>
            <a:r>
              <a:rPr b="0" i="1" lang="en-AU" sz="4200" spc="-1" strike="noStrike">
                <a:solidFill>
                  <a:srgbClr val="0f3256"/>
                </a:solidFill>
                <a:latin typeface="Arial"/>
              </a:rPr>
              <a:t>models of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place value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ense of numbers students need is more than reading the positional tag of a num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tivities using trading with models of place value do not always translate into understanding of place value and we se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2209680" y="4647240"/>
            <a:ext cx="934920" cy="2059920"/>
            <a:chOff x="2209680" y="4647240"/>
            <a:chExt cx="934920" cy="2059920"/>
          </a:xfrm>
        </p:grpSpPr>
        <p:sp>
          <p:nvSpPr>
            <p:cNvPr id="157" name="Text Box 13"/>
            <p:cNvSpPr/>
            <p:nvPr/>
          </p:nvSpPr>
          <p:spPr>
            <a:xfrm>
              <a:off x="2341800" y="47998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2646360" y="53330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2209680" y="6019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2209680" y="5715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2514600" y="50295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2584800" y="464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652840" y="59428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20"/>
          <p:cNvGrpSpPr/>
          <p:nvPr/>
        </p:nvGrpSpPr>
        <p:grpSpPr>
          <a:xfrm>
            <a:off x="5105520" y="4494600"/>
            <a:ext cx="1372320" cy="2212200"/>
            <a:chOff x="5105520" y="4494600"/>
            <a:chExt cx="1372320" cy="2212200"/>
          </a:xfrm>
        </p:grpSpPr>
        <p:sp>
          <p:nvSpPr>
            <p:cNvPr id="165" name="Text Box 21"/>
            <p:cNvSpPr/>
            <p:nvPr/>
          </p:nvSpPr>
          <p:spPr>
            <a:xfrm>
              <a:off x="5632920" y="449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5304240" y="479952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5618520" y="4799520"/>
              <a:ext cx="802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608800" y="53326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5486400" y="6019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5715000" y="5045040"/>
              <a:ext cx="30492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5845680" y="464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>
              <a:off x="5364360" y="5942520"/>
              <a:ext cx="1113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1055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>
              <a:off x="5477040" y="5029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5547240" y="468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2"/>
            <p:cNvSpPr/>
            <p:nvPr/>
          </p:nvSpPr>
          <p:spPr>
            <a:xfrm>
              <a:off x="5175720" y="464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Limits of </a:t>
            </a:r>
            <a:r>
              <a:rPr b="0" i="1" lang="en-AU" sz="4200" spc="-1" strike="noStrike">
                <a:solidFill>
                  <a:srgbClr val="0f3256"/>
                </a:solidFill>
                <a:latin typeface="Arial"/>
              </a:rPr>
              <a:t>models of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place value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14440" y="1904760"/>
            <a:ext cx="75772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An over-reliance on the linguistic tags approach leads to problems when the student breaks the number into par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2"/>
          <p:cNvGrpSpPr/>
          <p:nvPr/>
        </p:nvGrpSpPr>
        <p:grpSpPr>
          <a:xfrm>
            <a:off x="3713400" y="3199320"/>
            <a:ext cx="2212200" cy="840240"/>
            <a:chOff x="3713400" y="3199320"/>
            <a:chExt cx="2212200" cy="840240"/>
          </a:xfrm>
        </p:grpSpPr>
        <p:sp>
          <p:nvSpPr>
            <p:cNvPr id="180" name="Text Box 27"/>
            <p:cNvSpPr/>
            <p:nvPr/>
          </p:nvSpPr>
          <p:spPr>
            <a:xfrm>
              <a:off x="3713400" y="32752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8"/>
            <p:cNvSpPr/>
            <p:nvPr/>
          </p:nvSpPr>
          <p:spPr>
            <a:xfrm>
              <a:off x="5123160" y="32752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9"/>
            <p:cNvSpPr/>
            <p:nvPr/>
          </p:nvSpPr>
          <p:spPr>
            <a:xfrm>
              <a:off x="4569120" y="319932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8"/>
          <p:cNvGrpSpPr/>
          <p:nvPr/>
        </p:nvGrpSpPr>
        <p:grpSpPr>
          <a:xfrm>
            <a:off x="3262320" y="3886200"/>
            <a:ext cx="623520" cy="1144440"/>
            <a:chOff x="3262320" y="3886200"/>
            <a:chExt cx="623520" cy="1144440"/>
          </a:xfrm>
        </p:grpSpPr>
        <p:sp>
          <p:nvSpPr>
            <p:cNvPr id="184" name="Text Box 30"/>
            <p:cNvSpPr/>
            <p:nvPr/>
          </p:nvSpPr>
          <p:spPr>
            <a:xfrm>
              <a:off x="326232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4"/>
            <p:cNvSpPr/>
            <p:nvPr/>
          </p:nvSpPr>
          <p:spPr>
            <a:xfrm flipH="1">
              <a:off x="3580920" y="3886200"/>
              <a:ext cx="304920" cy="457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40"/>
          <p:cNvGrpSpPr/>
          <p:nvPr/>
        </p:nvGrpSpPr>
        <p:grpSpPr>
          <a:xfrm>
            <a:off x="4267080" y="3886200"/>
            <a:ext cx="534960" cy="1144440"/>
            <a:chOff x="4267080" y="3886200"/>
            <a:chExt cx="534960" cy="1144440"/>
          </a:xfrm>
        </p:grpSpPr>
        <p:sp>
          <p:nvSpPr>
            <p:cNvPr id="187" name="Text Box 31"/>
            <p:cNvSpPr/>
            <p:nvPr/>
          </p:nvSpPr>
          <p:spPr>
            <a:xfrm>
              <a:off x="431028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5"/>
            <p:cNvSpPr/>
            <p:nvPr/>
          </p:nvSpPr>
          <p:spPr>
            <a:xfrm>
              <a:off x="4267080" y="3886200"/>
              <a:ext cx="22860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9"/>
          <p:cNvGrpSpPr/>
          <p:nvPr/>
        </p:nvGrpSpPr>
        <p:grpSpPr>
          <a:xfrm>
            <a:off x="4938840" y="3886200"/>
            <a:ext cx="491760" cy="1144440"/>
            <a:chOff x="4938840" y="3886200"/>
            <a:chExt cx="491760" cy="1144440"/>
          </a:xfrm>
        </p:grpSpPr>
        <p:sp>
          <p:nvSpPr>
            <p:cNvPr id="190" name="Text Box 32"/>
            <p:cNvSpPr/>
            <p:nvPr/>
          </p:nvSpPr>
          <p:spPr>
            <a:xfrm>
              <a:off x="493884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 flipH="1">
              <a:off x="5257440" y="3886200"/>
              <a:ext cx="152280" cy="457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791320" y="3886200"/>
            <a:ext cx="623520" cy="1144440"/>
            <a:chOff x="5791320" y="3886200"/>
            <a:chExt cx="623520" cy="1144440"/>
          </a:xfrm>
        </p:grpSpPr>
        <p:sp>
          <p:nvSpPr>
            <p:cNvPr id="193" name="Text Box 33"/>
            <p:cNvSpPr/>
            <p:nvPr/>
          </p:nvSpPr>
          <p:spPr>
            <a:xfrm>
              <a:off x="592308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99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5791320" y="3886200"/>
              <a:ext cx="30456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43"/>
          <p:cNvSpPr/>
          <p:nvPr/>
        </p:nvSpPr>
        <p:spPr>
          <a:xfrm>
            <a:off x="1409760" y="5029200"/>
            <a:ext cx="758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Instead of 2 in the tens column and 3 in the units column, 23 needs to be seen as a composite — 20 and 3 or 10 and 1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4107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f3256"/>
                </a:solidFill>
                <a:latin typeface="Arial"/>
              </a:rPr>
              <a:t>Focus for mental computation</a:t>
            </a:r>
            <a:endParaRPr b="0" lang="en-US" sz="40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93640" y="2971440"/>
            <a:ext cx="75006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explaining their own ment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listening to and evaluating, in their own minds, the methods other students are u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our questioning needs to facilitat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490760" y="1981080"/>
            <a:ext cx="742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 mental computation the focus is twofo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9760" y="304920"/>
            <a:ext cx="773424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Developing </a:t>
            </a:r>
            <a:r>
              <a:rPr b="0" i="1" lang="en-AU" sz="3800" spc="-1" strike="noStrike">
                <a:solidFill>
                  <a:srgbClr val="0f3256"/>
                </a:solidFill>
                <a:latin typeface="Arial"/>
              </a:rPr>
              <a:t>models for</a:t>
            </a: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 place value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409760" y="1981080"/>
            <a:ext cx="7505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460440">
              <a:lnSpc>
                <a:spcPct val="100000"/>
              </a:lnSpc>
              <a:spcBef>
                <a:spcPts val="9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ental computation practices often preserve the relative value of the parts of the numbers that are being operat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0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at is, hundreds are treated as hundreds and tens are treated as tens.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9760" y="380520"/>
            <a:ext cx="773424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Developing </a:t>
            </a:r>
            <a:r>
              <a:rPr b="0" i="1" lang="en-AU" sz="3800" spc="-1" strike="noStrike">
                <a:solidFill>
                  <a:srgbClr val="0f3256"/>
                </a:solidFill>
                <a:latin typeface="Arial"/>
              </a:rPr>
              <a:t>models for</a:t>
            </a: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 place value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414440" y="2133720"/>
            <a:ext cx="750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9200" indent="-349200">
              <a:lnSpc>
                <a:spcPct val="100000"/>
              </a:lnSpc>
              <a:spcBef>
                <a:spcPts val="9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In written algorithms, the relative values are set aside and digits are manipulated as though they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un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9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ental computation is more likely to be meaning-based than written algorithms which are rule-ba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00200" y="27428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users close the new browser window to return to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users - quit PowerPoint to re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Explaining mental methods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explanation and justification are central components of mental computation, students learn far more than arithme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learn what constitutes a mathematical argument and they learn to think and reason mathe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f3256"/>
                </a:solidFill>
                <a:latin typeface="Arial"/>
              </a:rPr>
              <a:t>Valuing Mental Computation Online</a:t>
            </a:r>
            <a:endParaRPr b="0" lang="en-US" sz="36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2666520"/>
            <a:ext cx="696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f3256"/>
                </a:solidFill>
                <a:latin typeface="Arial"/>
              </a:rPr>
              <a:t>Recording student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414000"/>
            <a:ext cx="72579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Recording student responses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 is important to record student responses so that all students can </a:t>
            </a:r>
            <a:r>
              <a:rPr b="0" i="1" lang="en-AU" sz="3200" spc="-1" strike="noStrike">
                <a:solidFill>
                  <a:srgbClr val="000099"/>
                </a:solidFill>
                <a:latin typeface="Arial"/>
              </a:rPr>
              <a:t>see the thinking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 is important </a:t>
            </a:r>
            <a:r>
              <a:rPr b="0" i="1" lang="en-AU" sz="3200" spc="-1" strike="noStrike">
                <a:solidFill>
                  <a:srgbClr val="000099"/>
                </a:solidFill>
                <a:latin typeface="Arial"/>
              </a:rPr>
              <a:t>not to judg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methods students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will be able to </a:t>
            </a:r>
            <a:r>
              <a:rPr b="0" i="1" lang="en-AU" sz="3200" spc="-1" strike="noStrike">
                <a:solidFill>
                  <a:srgbClr val="000099"/>
                </a:solidFill>
                <a:latin typeface="Arial"/>
              </a:rPr>
              <a:t>see the variet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f methods and may choose to try a different one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414000"/>
            <a:ext cx="72579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Recording student responses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ay you record the student responses so that all students can visualise the thinking will depend on th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mpty number line is a useful tool when the student begins with one of the numbers and deals with the second number in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ording the steps is better when the student partitions both numbers and then recomb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9760" y="353520"/>
            <a:ext cx="727704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9400" y="1980720"/>
            <a:ext cx="7729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took 10 from the 52 to give me 42. Then I took away 2 more gives me 40. I have 5 more to take away gives 35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Law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I took away the 2. Then I took away the 10. Then I took away the other 5. My answer is 35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enz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started at 17 and added 3 to make 20 and then 30 more makes 50 and I need 2 more to get to 52.  My answer is  </a:t>
            </a:r>
            <a:r>
              <a:rPr b="0" lang="en-AU" sz="2400" spc="-1" strike="noStrike">
                <a:solidFill>
                  <a:srgbClr val="919191"/>
                </a:solidFill>
                <a:latin typeface="Arial"/>
              </a:rPr>
              <a:t>33 …,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35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I take 10 from 50 to get 40. Then I take 7 from 2 to get 5 down. My answer is 35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omi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417600"/>
            <a:ext cx="727704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506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 took 10 from the 52 to give me 42. Then I took away 2 more gives me 40. I have 5 more to take away gives 35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Law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1" descr="&#13;52minus17.tif  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1676520" y="4343400"/>
            <a:ext cx="6350040" cy="1066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2"/>
          <p:cNvSpPr/>
          <p:nvPr/>
        </p:nvSpPr>
        <p:spPr>
          <a:xfrm>
            <a:off x="731736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449820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373608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853960" y="40377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4115520" y="4723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8840" y="4342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228816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286000" y="5410080"/>
            <a:ext cx="457200" cy="3812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2770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75056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rst I took away the 2. Then I took away the 10. Then I took away the other 5. My answer is 3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enz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1640" y="5333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945840" y="5333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041000" y="5333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523240" y="5339160"/>
            <a:ext cx="51912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33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9" descr="_x000f_52minus17_2.tif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1955880" y="4267080"/>
            <a:ext cx="6350040" cy="1067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7315920" y="4677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5410800" y="3945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347280" y="4342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1:52:56Z</dcterms:created>
  <dc:creator>CURRIC</dc:creator>
  <dc:description/>
  <cp:keywords>mental computation numeracy</cp:keywords>
  <dc:language>en-US</dc:language>
  <cp:lastModifiedBy>SARKELL1</cp:lastModifiedBy>
  <cp:lastPrinted>2002-07-10T01:33:52Z</cp:lastPrinted>
  <dcterms:modified xsi:type="dcterms:W3CDTF">2010-08-12T02:09:02Z</dcterms:modified>
  <cp:revision>254</cp:revision>
  <dc:subject/>
  <dc:title>PowerPoint Presentation  -  Valuing mental computation online - before you start</dc:title>
</cp:coreProperties>
</file>